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0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whoosh.wav" ContentType="audio/x-wav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86F7-91BF-4B8F-9BDD-5DFCDA05667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F6B3-F1C0-4D0F-818C-D4185BF883F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968A-BCC8-4FD8-BD46-8349A4608A8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87E8-77BB-43FD-BED3-E82F4F680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DD1D-3D1C-4297-BB29-25B45C66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AAF7-DF10-4D3D-BE5A-B3D42FE55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F522-6115-4066-8A2C-CD970FC5D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8645-DB6B-404B-932B-2A7BBDE07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2BE4-0341-448E-93FF-B0347D9D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20FC-4CFF-4B48-88E2-2D3A65BC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FCA9-D8A3-464B-91D3-BC14B435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9CF7-FC1F-4705-A00F-17521883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5BE3-3809-4076-890F-7C0DE80A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3248-7AE5-4FAA-9264-EF14656F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4237-298F-490E-9829-CAEC7E0D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3DA3-645B-4763-A499-6E014D33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32F62-4967-430B-95E5-02CB2E93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E133C-35F6-4522-B0E5-F8C7A2CA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875A-4AB2-4A1F-95AF-2E7BC6B15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90A6A-1AF3-4CB7-94A3-34C018EED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FD08D-46B8-4C3A-A3C7-8B43BC445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C0274-DA36-4159-B00D-94542EEE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B16FD-7F9D-4E6F-9940-3FCF45C3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F935D-5392-4941-B407-E4150A38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79E98-7253-450C-8D77-FBB92EF7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1C2B-5AE7-4214-9A63-E9ADD358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DDCEE-7A93-49CF-89E8-58FFAC91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EFB95-5925-49C1-B9DF-0CD8A59E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CF8C4-F715-4BEF-ABA0-CDFD1525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92BC5-B211-4EBF-BD31-F165B100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6212F-D689-4007-A7E4-20C9391C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35C78-FAAC-4255-8DC9-2C2DA90CA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B3E22-C023-4F42-A7C2-489417110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EA54D-C8CD-4D34-88F1-F51FA7623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B4479-C151-45B5-B069-2E377AB4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BF1F5-2ABF-4FD3-8118-EA6496F3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071A-BA39-4AFC-9958-6EE5C9B0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357DA-8620-4581-BBC7-B10BDDDC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6675D-BF40-42C7-A5FE-F110E757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A526B-B040-45B4-9D27-513AD555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5F510-ED38-4D73-AA16-69222890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8F8F2-DCB1-4407-AD53-06E12378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3A1C1-964C-4B67-AF1B-1FEEE4EF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00486-FD58-4B4F-BBB3-A87430BE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A72DA-71F7-4AF2-A58C-83653DA8D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B5620-B306-4EB3-88BF-957456965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FDAD8-F8E2-41F0-A7D4-F1D7E1EC4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91C4-B432-466C-BB6E-2FD41700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5593E-A04C-4D6C-9908-DD0DEAC8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12266-7642-4998-8F34-4D4B4393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3BFF0-872E-4F68-A991-1B0774E8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95E8B-2796-4417-AAB1-6B544EE5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0BAEB-34AD-48E1-9C6F-0E1ACB97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469AB-1A89-4B46-A5D7-6FBB15B0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C22DB-363B-439C-860B-88EBDD41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68259-AD23-45F9-8A80-59FA4688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2DAB8-D15F-41F7-9073-D85F0209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90245-D592-428B-84D1-6502CA6BE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1705-4581-446D-90DE-084FF145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7A025-6C31-4A11-9956-982323859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60C7-589D-4F8B-9DD8-C3C1B932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59B0-5C60-4BBF-A719-72C27E48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9E25-5896-4F9B-8A45-1A3C8565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rostokąt zaokrąglony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F4D5-F9B2-4988-A6D9-2C44F96AED4B}" type="slidenum">
              <a:rPr b="0" lang="pl-P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rostokąt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rostokąt zaokrąglony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rostokąt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rostokąt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rostokąt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AB02-0980-445A-881C-7A730C07DF57}" type="slidenum">
              <a:rPr b="0" lang="pl-P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rostokąt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Prostokąt zaokrąglony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Prostokąt zaokrąglony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Prostokąt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rostokąt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rostokąt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A8D4-E7AD-42E3-9AAC-735B096C7CA1}" type="slidenum">
              <a:rPr b="0" lang="pl-P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rostokąt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rostokąt zaokrąglony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rostokąt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rostokąt zaokrąglony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4AA9-20EC-48BB-82A7-F983AA3D68FD}" type="slidenum">
              <a:rPr b="0" lang="pl-P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rostokąt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rostokąt zaokrąglony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rostokąt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rostokąt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rostokąt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9A14-A66D-4225-B792-D458FC22B9A9}" type="slidenum">
              <a:rPr b="0" lang="pl-P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324000" y="3213000"/>
            <a:ext cx="8642160" cy="165600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0000"/>
                </a:solidFill>
                <a:latin typeface="Franklin Gothic Book"/>
              </a:rPr>
              <a:t>Jak bawić się bezpiecznie</a:t>
            </a:r>
            <a:endParaRPr b="0" lang="en-US" sz="54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7" name="Picture 4" descr="C:\Users\Darek\Desktop\góra.jpg"/>
          <p:cNvPicPr/>
          <p:nvPr/>
        </p:nvPicPr>
        <p:blipFill>
          <a:blip r:embed="rId1"/>
          <a:stretch/>
        </p:blipFill>
        <p:spPr>
          <a:xfrm>
            <a:off x="1692360" y="260280"/>
            <a:ext cx="5759280" cy="944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C:\Users\Darek\Desktop\dół.jpg"/>
          <p:cNvPicPr/>
          <p:nvPr/>
        </p:nvPicPr>
        <p:blipFill>
          <a:blip r:embed="rId2"/>
          <a:stretch/>
        </p:blipFill>
        <p:spPr>
          <a:xfrm>
            <a:off x="1633680" y="5013360"/>
            <a:ext cx="5759280" cy="1400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3" name="whoos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Perpetua"/>
              </a:rPr>
              <a:t>Gdy ktoś w twoim otoczeniu zasłabnie, ułóż tę osobę na ziemi tak aby nogi znajdowały się na podwyższeniu.  Ta pozycja pozwoli jej lepiej oddychać. Jeżeli znajdujesz się w zamkniętym pomieszczeniu, otwórz okno, aby wpuścić świeże powietrze. Następnie powiadom osoby dorosł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 spd="med">
    <p:newsflash/>
    <p:sndAc>
      <p:stSnd>
        <p:snd r:embed="rId1" name="whoosh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914400" y="83664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Gdy podczas spaceru nadejdzie burza lub wichura nie chowaj się pod wysokimi drzewami, ponieważ spadające gałęzie lub pioruny mogą nieść poważne zagrożenia zdrowia i życia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Gdy znajdujesz się na terenie zabudowanym postaraj się unikać metalowych obiektów np., słupów energetycznych. Jak najszybciej ukryj się w budynku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Jeżeli burza zaskoczyła cię na terenie otwartym, nie uciekaj przed nią. Oddal się spokojnym krokiem od drzew i poszukaj schronienia na niższym terenie.</a:t>
            </a:r>
            <a:r>
              <a:rPr b="0" lang="pl-PL" sz="2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 spd="med">
    <p:newsflash/>
    <p:sndAc>
      <p:stSnd>
        <p:snd r:embed="rId1" name="whoosh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914400" y="259920"/>
            <a:ext cx="77724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Nie podchodź i nie głaskaj nieznajomych psów. Miej się na baczności gdy pies na ciebie szczeka, warczy i pokazuje zęby. Nie wolno krzyczeć na niego, zachowuj się tak jakbyś się go nie bał.  Pamiętaj aby nie patrzeć mu się prosto w oczy i nie odwracaj się do niego tyłem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Jeżeli ugryzł cię pies natychmiast powiadom osobę dorosłą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6" name="Obraz 4" descr="dog-454146_640.jpg"/>
          <p:cNvPicPr/>
          <p:nvPr/>
        </p:nvPicPr>
        <p:blipFill>
          <a:blip r:embed="rId1"/>
          <a:stretch/>
        </p:blipFill>
        <p:spPr>
          <a:xfrm>
            <a:off x="2411280" y="3284640"/>
            <a:ext cx="4345200" cy="28922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whoosh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68" name="Symbol zastępczy zawartości 4" descr="chemical-reaction-24562_640.png"/>
          <p:cNvPicPr/>
          <p:nvPr/>
        </p:nvPicPr>
        <p:blipFill>
          <a:blip r:embed="rId1"/>
          <a:stretch/>
        </p:blipFill>
        <p:spPr>
          <a:xfrm>
            <a:off x="3348000" y="3141720"/>
            <a:ext cx="1600200" cy="1623960"/>
          </a:xfrm>
          <a:prstGeom prst="rect">
            <a:avLst/>
          </a:prstGeom>
          <a:ln w="0">
            <a:noFill/>
          </a:ln>
        </p:spPr>
      </p:pic>
      <p:pic>
        <p:nvPicPr>
          <p:cNvPr id="269" name="Obraz 5" descr="chemicals-540607_640.jpg"/>
          <p:cNvPicPr/>
          <p:nvPr/>
        </p:nvPicPr>
        <p:blipFill>
          <a:blip r:embed="rId2"/>
          <a:stretch/>
        </p:blipFill>
        <p:spPr>
          <a:xfrm>
            <a:off x="3419640" y="404640"/>
            <a:ext cx="3247920" cy="2444760"/>
          </a:xfrm>
          <a:prstGeom prst="rect">
            <a:avLst/>
          </a:prstGeom>
          <a:ln w="0">
            <a:noFill/>
          </a:ln>
        </p:spPr>
      </p:pic>
      <p:pic>
        <p:nvPicPr>
          <p:cNvPr id="270" name="Obraz 6" descr="cleaning-532411_640.jpg"/>
          <p:cNvPicPr/>
          <p:nvPr/>
        </p:nvPicPr>
        <p:blipFill>
          <a:blip r:embed="rId3"/>
          <a:stretch/>
        </p:blipFill>
        <p:spPr>
          <a:xfrm>
            <a:off x="5076720" y="3860640"/>
            <a:ext cx="3683160" cy="2446560"/>
          </a:xfrm>
          <a:prstGeom prst="rect">
            <a:avLst/>
          </a:prstGeom>
          <a:ln w="0">
            <a:noFill/>
          </a:ln>
        </p:spPr>
      </p:pic>
      <p:pic>
        <p:nvPicPr>
          <p:cNvPr id="271" name="Obraz 7" descr="extinguisher-237643_640.jpg"/>
          <p:cNvPicPr/>
          <p:nvPr/>
        </p:nvPicPr>
        <p:blipFill>
          <a:blip r:embed="rId4"/>
          <a:stretch/>
        </p:blipFill>
        <p:spPr>
          <a:xfrm>
            <a:off x="7164360" y="260280"/>
            <a:ext cx="1835280" cy="3273480"/>
          </a:xfrm>
          <a:prstGeom prst="rect">
            <a:avLst/>
          </a:prstGeom>
          <a:ln w="0">
            <a:noFill/>
          </a:ln>
        </p:spPr>
      </p:pic>
      <p:pic>
        <p:nvPicPr>
          <p:cNvPr id="272" name="Obraz 8" descr="forms-103443_640.jpg"/>
          <p:cNvPicPr/>
          <p:nvPr/>
        </p:nvPicPr>
        <p:blipFill>
          <a:blip r:embed="rId5"/>
          <a:stretch/>
        </p:blipFill>
        <p:spPr>
          <a:xfrm>
            <a:off x="395280" y="2205000"/>
            <a:ext cx="2509920" cy="3768840"/>
          </a:xfrm>
          <a:prstGeom prst="rect">
            <a:avLst/>
          </a:prstGeom>
          <a:ln w="0">
            <a:noFill/>
          </a:ln>
        </p:spPr>
      </p:pic>
      <p:pic>
        <p:nvPicPr>
          <p:cNvPr id="273" name="Obraz 9" descr="honey-292133_640.jpg"/>
          <p:cNvPicPr/>
          <p:nvPr/>
        </p:nvPicPr>
        <p:blipFill>
          <a:blip r:embed="rId6"/>
          <a:stretch/>
        </p:blipFill>
        <p:spPr>
          <a:xfrm>
            <a:off x="179280" y="189000"/>
            <a:ext cx="2679840" cy="1787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7" name="whoosh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Symbol zastępczy zawartości 3" descr=""/>
          <p:cNvPicPr/>
          <p:nvPr/>
        </p:nvPicPr>
        <p:blipFill>
          <a:blip r:embed="rId1"/>
          <a:stretch/>
        </p:blipFill>
        <p:spPr>
          <a:xfrm>
            <a:off x="414360" y="536400"/>
            <a:ext cx="8034480" cy="55594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whoosh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76" name="Symbol zastępczy zawartości 4" descr="freedom-307791_640.png"/>
          <p:cNvPicPr/>
          <p:nvPr/>
        </p:nvPicPr>
        <p:blipFill>
          <a:blip r:embed="rId1"/>
          <a:stretch/>
        </p:blipFill>
        <p:spPr>
          <a:xfrm>
            <a:off x="1258920" y="765000"/>
            <a:ext cx="7007040" cy="52549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whoosh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84000" y="1447920"/>
            <a:ext cx="8002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Podczas pływania należy uważać. Nie wszystkie zbiorniki wodne są odpowiednie do kąpieli. W wodzie mogą znajdować się niebezpieczne przedmioty, które wyrządzą krzywdę. Należy korzystać tylko z wyznaczonych kąpielisk pod opieką dorosłych! 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1" name="Obraz 3" descr="fun-169720_640.jpg"/>
          <p:cNvPicPr/>
          <p:nvPr/>
        </p:nvPicPr>
        <p:blipFill>
          <a:blip r:embed="rId1"/>
          <a:stretch/>
        </p:blipFill>
        <p:spPr>
          <a:xfrm>
            <a:off x="2195640" y="404640"/>
            <a:ext cx="4608360" cy="3081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whoosh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69192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Pamiętaj aby podczas gry w piłkę nie bawić się blisko drogi. 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4" name="Obraz 4" descr="the-ball-488716_640.jpg"/>
          <p:cNvPicPr/>
          <p:nvPr/>
        </p:nvPicPr>
        <p:blipFill>
          <a:blip r:embed="rId1"/>
          <a:stretch/>
        </p:blipFill>
        <p:spPr>
          <a:xfrm>
            <a:off x="1476360" y="2060640"/>
            <a:ext cx="6095880" cy="40575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whoosh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14400" y="69192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Nie należy bawić się petardami. Mogą wybuchnąć w ręku i poważnie uszkodzić twoje ciało. Oprócz oparzeń możesz stracić wzrok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7" name="Obraz 4" descr="firecracker-157886_640.png"/>
          <p:cNvPicPr/>
          <p:nvPr/>
        </p:nvPicPr>
        <p:blipFill>
          <a:blip r:embed="rId1"/>
          <a:stretch/>
        </p:blipFill>
        <p:spPr>
          <a:xfrm>
            <a:off x="2268360" y="1916280"/>
            <a:ext cx="4408560" cy="4489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whoosh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14400" y="475920"/>
            <a:ext cx="77724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Jazda na rolkach jest bardzo ekscytująca. Przed rozpoczęciem jazdy pamiętaj by założyć kask i ochraniacze. Nie szusuj po ulicy tylko po specjalnie wyznaczonych alejkach i chodnikach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0" name="Obraz 4" descr="skating-23797_640.png"/>
          <p:cNvPicPr/>
          <p:nvPr/>
        </p:nvPicPr>
        <p:blipFill>
          <a:blip r:embed="rId1"/>
          <a:stretch/>
        </p:blipFill>
        <p:spPr>
          <a:xfrm>
            <a:off x="3059280" y="1989000"/>
            <a:ext cx="2717640" cy="4469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whoosh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14400" y="475920"/>
            <a:ext cx="77724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Lekarstwa są bardzo atrakcyjne, szczególnie te wyglądające jak kolorowe cukierki. Jednak uważaj bo mogą być bardzo niebezpieczne dla ciebie. Gdy poczujesz się źle, powiedz o tym osobie dorosłej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Niewłaściwe stosowanie leków może negatywnie wpłynąć na organizm a nawet doprowadzić do śmierci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3" name="Obraz 4" descr="medications-342463_640.jpg"/>
          <p:cNvPicPr/>
          <p:nvPr/>
        </p:nvPicPr>
        <p:blipFill>
          <a:blip r:embed="rId1"/>
          <a:stretch/>
        </p:blipFill>
        <p:spPr>
          <a:xfrm>
            <a:off x="2195640" y="3500280"/>
            <a:ext cx="5137200" cy="2772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whoosh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914400" y="475920"/>
            <a:ext cx="77724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Jazdę na łyżwach należy uprawiać w specjalnie do tego przeznaczonych miejscach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5" name="Obraz 4" descr="ice-skating-235547_640.jpg"/>
          <p:cNvPicPr/>
          <p:nvPr/>
        </p:nvPicPr>
        <p:blipFill>
          <a:blip r:embed="rId1"/>
          <a:stretch/>
        </p:blipFill>
        <p:spPr>
          <a:xfrm>
            <a:off x="1547640" y="2060640"/>
            <a:ext cx="6096240" cy="4067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whoosh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14400" y="475920"/>
            <a:ext cx="77724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Wszystkie przedmioty spadające ze znacznej wysokości niosą zagrożenie dla przechodniów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Nie wolno niczego wyrzucać przez okno, można w ten sposób spowodować groźny wypadek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8" name="Obraz 4" descr="water-balloon-308736_640.png"/>
          <p:cNvPicPr/>
          <p:nvPr/>
        </p:nvPicPr>
        <p:blipFill>
          <a:blip r:embed="rId1"/>
          <a:stretch/>
        </p:blipFill>
        <p:spPr>
          <a:xfrm>
            <a:off x="2843280" y="2349360"/>
            <a:ext cx="4200480" cy="37735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whoosh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Perpetua"/>
              </a:rPr>
              <a:t>Jeżeli w chłodne dni zdarzy ci się wychłodzić lub przemoczyć organizm jak najszybciej przebierz się w suche ciepłe ubrania i okryj się kocem. Ogrzeje cię również kubek gorącego napoju, np. herbaty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 spd="med">
    <p:newsflash/>
    <p:sndAc>
      <p:stSnd>
        <p:snd r:embed="rId1" name="whoosh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07:15:31Z</dcterms:created>
  <dc:creator>Z-ca Komendanta</dc:creator>
  <dc:description/>
  <dc:language>en-US</dc:language>
  <cp:lastModifiedBy>Darek</cp:lastModifiedBy>
  <dcterms:modified xsi:type="dcterms:W3CDTF">2015-01-20T14:12:12Z</dcterms:modified>
  <cp:revision>19</cp:revision>
  <dc:subject/>
  <dc:title>Jak Bawić się bezpiecznie</dc:title>
</cp:coreProperties>
</file>